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64F38-0D6A-49C9-B57E-9F4DD323FC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and 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Year 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and 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Year 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e or Fal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es carry blood from the 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es carry oxygenated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 connect arteries and v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 have very thick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s have no val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 have valves to prevent the backflow of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s have a large space in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es carry de-oxygenated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s carry blood towards the 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e or Fal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es carry blood from the 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es carry oxygenated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 connect arteries and v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 have very thick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s have no val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 have valves to prevent the backflow of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s have a large space in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es carry de-oxygenated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s carry blood towards the 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the heart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is a muscle that pumps blood around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pumps oxygenated blood from the lungs around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pumps deoxygenated blood from the body back to the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look at the heart animatio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the heart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is a muscle that pumps blood around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pumps oxygenated blood from the lungs around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pumps deoxygenated blood from the body back to the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look at the heart animatio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ing at the heart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ght side of my heart pumps blood to my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ft side of my heart pumps blood to the rest of my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contains four valves to stop the backflow of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ing at the heart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ght side of my heart pumps blood to my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ft side of my heart pumps blood to the rest of my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contains four valves to stop the backflow of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F50F-29A1-48BE-8A02-D09756439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A5B0-4A6D-4FCF-8F61-E6B077DFA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93E3-C6CF-4E71-B1A6-C6F33A999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273A-AAE5-40A9-A609-DBB2F497C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B5FB-6320-4230-82ED-F776BDAA2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BDF2-6909-47C6-92F1-0152F4A5B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AA11-D94C-4756-AA5D-6ECAB6F51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62E7-BCEC-423E-B81B-19D628798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3FAB-93C2-416E-B4D3-0AAEBCAB5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E5CC-ECFA-4A2E-AF2E-7FE0AF5D4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00DA-F234-4A11-8E73-500FF618B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CBAA-49A2-491A-AE98-2A06F20D8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027F2-542D-4461-B320-39C98224084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Heart and Circulatory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Year 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rue or Fal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611280" y="1773360"/>
            <a:ext cx="1512720" cy="1191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teries carry blood from the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611280" y="4365720"/>
            <a:ext cx="1512720" cy="1191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teries carry oxygenated bl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5292720" y="1989000"/>
            <a:ext cx="1512720" cy="1191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pillaries connect arteries and ve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3132000" y="1557360"/>
            <a:ext cx="151308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pillaries have very thick w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3059280" y="3141720"/>
            <a:ext cx="15127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ins have no va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7093080" y="5013360"/>
            <a:ext cx="1512720" cy="1465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pillaries have valves to prevent the backflow of bl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4"/>
          <p:cNvSpPr/>
          <p:nvPr/>
        </p:nvSpPr>
        <p:spPr>
          <a:xfrm>
            <a:off x="3059280" y="5229360"/>
            <a:ext cx="151272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ins have a large space in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5"/>
          <p:cNvSpPr/>
          <p:nvPr/>
        </p:nvSpPr>
        <p:spPr>
          <a:xfrm>
            <a:off x="4859280" y="3789360"/>
            <a:ext cx="1513080" cy="1191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teries carry de-oxygenated bl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6"/>
          <p:cNvSpPr/>
          <p:nvPr/>
        </p:nvSpPr>
        <p:spPr>
          <a:xfrm>
            <a:off x="7164360" y="2637000"/>
            <a:ext cx="1513080" cy="1191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ins carry blood towards the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does the heart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heart is a muscle that pumps blood around the 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pumps oxygenated blood from the lungs around the 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pumps deoxygenated blood from the body back to the lu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Now look at the heart anima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ooking at the heart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right side of my heart pumps blood to my lu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left side of my heart pumps blood to the rest of my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heart contains four valves to stop the backflow of 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5T14:50:31Z</dcterms:created>
  <dc:creator>CEC</dc:creator>
  <dc:description/>
  <dc:language>en-US</dc:language>
  <cp:lastModifiedBy>LEGION2</cp:lastModifiedBy>
  <dcterms:modified xsi:type="dcterms:W3CDTF">2016-01-14T09:48:44Z</dcterms:modified>
  <cp:revision>8</cp:revision>
  <dc:subject/>
  <dc:title>The Heart and Circulatory System</dc:title>
</cp:coreProperties>
</file>